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8493-8C2F-4171-96C3-E68FB6DC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D80C-DBFD-4633-A9B3-18D8A568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FEE1-EF0C-49A8-81D8-06EBFFE5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4744-5398-42A8-BDB6-A7F04F7B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1025-3210-4827-B8D6-E94F9CDC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1912-A76F-48A0-A8FA-ED70CD31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B01D-2C3D-432B-B8F5-C05218D1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1611-0FC1-4B0C-A8DE-C0260FBA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2AF8-A105-4E36-A810-5F196B26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D5CE-149B-4D53-8A69-557E4049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DF8B-C4F9-4C13-A146-BD4E89C3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6887-BA46-4A2F-9CC1-FDB7AEB9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0FE1-0720-4C85-B1C0-4D3BADD4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DF46-AA3F-4F53-9BCB-C49EE5AD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F35F-9D27-41E7-892F-8538A09F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E47D-85A1-4371-B5CD-1DD91E4D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1E002-B9EB-40B7-9614-6BC6BDD2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A6294-6BD9-42DD-984A-D42107E3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BDBC3-55EE-4829-A1F5-A67399D9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BA821-42D4-4B22-8D03-A90B114F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16B04-3932-4C50-9194-4C5D0806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63B23-8769-4A68-8CD0-977836FB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FB3A0-E982-41AD-AC83-4CE2BF99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112FF-5F95-447A-B75F-CB8553B0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AEF1F-53ED-4071-8E78-E80F7405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7C2BC-B309-42AB-A876-42AF0321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849B9-FD17-4252-A44C-8AD9562C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2AFF1-798A-44A5-A67D-A6BFCD05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610E-9245-40A6-B4EF-8C7F44F9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F49C-F3D2-4446-B800-4A8E0C86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2335-29EC-4700-BADB-8CEB56DE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AAC4-7FBB-463C-AE0B-132F9993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409-0232-486C-AEAB-C728B4FA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D6C5-CC1F-4356-B6A3-C8394406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0764-E544-4089-AA92-FE26FBD6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703-016D-46AF-806A-0C8038B7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B500-E6F5-442A-876B-61B7A22BE8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AC46-9E5C-415B-94A4-D2573928F53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45A8-ADC6-49F6-B96D-2A1080019C7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39760" y="312480"/>
            <a:ext cx="6364080" cy="22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Navodila organa upravljanja o izpolnjevanju pogojev </a:t>
            </a:r>
            <a:br>
              <a:rPr sz="2800"/>
            </a:b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za opravljanje nalog posredniškega organa </a:t>
            </a:r>
            <a:br>
              <a:rPr sz="2800"/>
            </a:b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v programskem obdobju 2014 - 2020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1.12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18640" y="365040"/>
            <a:ext cx="7067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00000"/>
                </a:solidFill>
                <a:latin typeface="Calibri Light"/>
              </a:rPr>
              <a:t>Kazal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825120" y="1872720"/>
            <a:ext cx="7061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avna podla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plošne smern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Minimalni standard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Vprašanj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 txBox="1"/>
          <p:nvPr/>
        </p:nvSpPr>
        <p:spPr>
          <a:xfrm>
            <a:off x="225360" y="1262160"/>
            <a:ext cx="829008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Uredba (EU) št. 1303/201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Uredba (EU) št. 1301/201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Uredba (EU) št. 1304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Uredba (EU) št. 1300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Izvedbena uredba EU) št. 1011/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ZJ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ZIP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Uredba o porabi sredstev evropske kohezijske politike v Republiki Sloveniji v programskem obdobju 2014–2020 za cilj naložbe za rast in delovna mesta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47360" y="174240"/>
            <a:ext cx="77677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Calibri Light"/>
              </a:rPr>
              <a:t>Pravna podlaga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Content Placeholder 3" descr=""/>
          <p:cNvPicPr/>
          <p:nvPr/>
        </p:nvPicPr>
        <p:blipFill>
          <a:blip r:embed="rId1"/>
          <a:stretch/>
        </p:blipFill>
        <p:spPr>
          <a:xfrm>
            <a:off x="396720" y="1073160"/>
            <a:ext cx="8382240" cy="545616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74640" y="364680"/>
            <a:ext cx="78408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72. člen 1303/2013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Content Placeholder 3" descr=""/>
          <p:cNvPicPr/>
          <p:nvPr/>
        </p:nvPicPr>
        <p:blipFill>
          <a:blip r:embed="rId1"/>
          <a:stretch/>
        </p:blipFill>
        <p:spPr>
          <a:xfrm>
            <a:off x="219240" y="1133640"/>
            <a:ext cx="8650080" cy="549900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Splošne smernic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318600" y="1150560"/>
            <a:ext cx="85568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PO mora zagotovit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organizacijsko shemo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notraj NPU z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opisom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razdelitvijo nalog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ki pokrivajo vse faze izvajanja EKP, s predvidenim št. delovnih mes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 primeru, da je NPU v vlogi upravičenca, mora zagotavljati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ločitev funkcij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 zagotavljanjem funkcionalne neodvisnosti pri izvajanju in preverjanju operaci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načrtovanje operacij in jamstva o plačilni sposobnosti P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reverjanje skladnosti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peracij s pravili Evropske unije in Republike Slovenije (pred potrditvij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zvajanje sistema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spremljanja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rednotenja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operativnega progra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zvajanje sistema za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reprečevanje, odkrivanje, evidentiranje, preiskovanje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n odpravljanj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nepravilnosti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in goljufi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mogočanj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reverjanje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 strani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OU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ter delovanja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revizorjev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nadzornih in tehničnih misij organov Evropske unije in Republike Slovenije ter ukrepanje skladno s priporočili iz končnih poročil misi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reverjanje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dobave sofinanciranih proizvodov in storitev ter preverjanje, ali so izdatki, ki so jih navedli izvajalci, dejansko nastali ter so v skladu s pravili Evropske unije in Republike Sloveni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2560" y="364680"/>
            <a:ext cx="7832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Minimalni standardi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396720" y="880560"/>
            <a:ext cx="8288640" cy="56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upravljanje in izvajanj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celostnih teritorialnih naložb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kjer je to relevantn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upravljanje in izvajanj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lokalnega razvoja, ki ga vodi skupnost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kjer je to relevantn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agotavljanje pravilnega in rednega zbiranja ter vnosa podatkov o izvajanju v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informacijskem sistemu OU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ki so potrebni za finančno upravljanje, spremljanje, nadzor in vrednotenje v skladu z navodili 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agotavljanje, da upravičenci in drugi organi, ki so udeleženi v izvajanju operacij,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odijo ločeno knjigovodstvo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za vse transakcije v zvezi z operacij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zpostavitev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ostopkov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a zagotovitev, da se vsi dokumenti glede izdatkov in preverjanj, ki so potrebni za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zagotovitev ustrezne revizijske sledi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hranijo v skladu s 140. členom Uredbe 1303/2013/EU in navodili 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agotavljanje, da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OU in MF-PO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ejm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se potrebne podatke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 postopkih in nadzoru, ki se izvaja gled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izdatkov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za namene izdaje potrdil, priprave letnih poročil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agotavljanje upoštevanja zahtev gled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informiranja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in javnega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obveščanja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agotavljanje podatkov Evropski komisiji, da ji je omogočeno ocenjevanj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elikih projektov,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kjer je relevant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45840" y="175320"/>
            <a:ext cx="786924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Content Placeholder 3" descr=""/>
          <p:cNvPicPr/>
          <p:nvPr/>
        </p:nvPicPr>
        <p:blipFill>
          <a:blip r:embed="rId1"/>
          <a:stretch/>
        </p:blipFill>
        <p:spPr>
          <a:xfrm>
            <a:off x="396720" y="1231920"/>
            <a:ext cx="8345520" cy="536400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3520" y="365040"/>
            <a:ext cx="789156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Nič ni stalnega </a:t>
            </a:r>
            <a:r>
              <a:rPr b="0" lang="sl-SI" sz="3200" spc="-1" strike="noStrike">
                <a:solidFill>
                  <a:srgbClr val="c00000"/>
                </a:solidFill>
                <a:latin typeface="Calibri Light"/>
              </a:rPr>
              <a:t>(razen sprememb)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4" descr="http://internetnizasluzek.blog.siol.net/files/2011/08/vprasanje-300x300.jpg"/>
          <p:cNvPicPr/>
          <p:nvPr/>
        </p:nvPicPr>
        <p:blipFill>
          <a:blip r:embed="rId1"/>
          <a:stretch/>
        </p:blipFill>
        <p:spPr>
          <a:xfrm>
            <a:off x="2211480" y="1155600"/>
            <a:ext cx="44226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Irena Brcko Kogoj</cp:lastModifiedBy>
  <cp:lastPrinted>2015-11-27T07:19:45Z</cp:lastPrinted>
  <dcterms:modified xsi:type="dcterms:W3CDTF">2015-11-30T09:35:42Z</dcterms:modified>
  <cp:revision>68</cp:revision>
  <dc:subject/>
  <dc:title>PowerPoint Presentation</dc:title>
</cp:coreProperties>
</file>